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8F5-392E-4948-BB49-BE0545E4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010-E824-4C4C-8C3C-AFF517A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6B5-D590-4271-BEAA-2CE9674F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1AC-777B-4686-A7EB-64AA81C3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4E0-766B-4E95-BA3A-FB648929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714-F326-4F09-B20D-E32BB2C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C8A-BA5D-44BF-AD27-D95A317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9B1-1CB6-4EAD-B9E7-54067B83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C51-152A-4FBE-A690-DC13583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B2F-72F4-44BC-990F-4356F77F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F80-E7D7-4351-BFA9-59998A2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C89-A6C5-4F0B-A58A-B21A8DD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26D-43A2-4342-9D54-16E6AC0AF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378000" y="476280"/>
            <a:ext cx="828504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http://razorpix.ru/s/37/doroga_protektor_zima_sneg_nast_alleya_solnce_nebo_tuchi_1920x12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xn----ftbebqosbgnd.xn--p1ai/uploads/posts/2012-06/1340371940_sosulki-6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tmfoto.ru/upload/iblock/78f/78f2e9d7aa9231751ed8d0ac220922a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vedtver.ru/data/uploads/2013-01/page/14659/130123pogoda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ttp://img-fotki.yandex.ru/get/5208/geteway.6/0_5028b_afa1378d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Z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02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снег пуш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духе кру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ет, лож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 утро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 забел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 пеленою все его од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ый лес, что шап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ся чу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снул под н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, непробуд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://www.fonstola.ru/pic/201112/800x600/fonstola.ru-64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www.fonstola.ru/pic/201111/1024x768/fonstola.ru-493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12:21Z</dcterms:created>
  <dc:creator>USER</dc:creator>
  <dc:description/>
  <dc:language>en-US</dc:language>
  <cp:lastModifiedBy>Пользователь Windows</cp:lastModifiedBy>
  <dcterms:modified xsi:type="dcterms:W3CDTF">2020-12-03T09:40:09Z</dcterms:modified>
  <cp:revision>37</cp:revision>
  <dc:subject/>
  <dc:title>Слайд 1</dc:title>
</cp:coreProperties>
</file>