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C80-D7FD-405D-9081-9D8CB30C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644-50D5-4364-A5BC-D336A413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D94-7841-495D-AFAD-7C541546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551-E8A3-4C4B-B895-BBA95CA3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C0D-2525-405C-A23D-CBF226E6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A4E-A8A6-49F4-93AF-BCF382CD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7E2-E8D5-4B50-97E5-B806404F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831-6BCB-42D6-9282-D1205994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732-0087-47E5-844B-706B141F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4B6-41B4-4E43-BE14-F4A08137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6BCF-2114-4D8D-9ED4-B3803311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7A9-9B69-4D4F-BF55-40D55925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5B3E-76F6-47D0-9AB5-C03F89D939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3"/>
          <a:stretch/>
        </p:blipFill>
        <p:spPr>
          <a:xfrm>
            <a:off x="378000" y="476280"/>
            <a:ext cx="8285040" cy="27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http://razorpix.ru/s/37/doroga_protektor_zima_sneg_nast_alleya_solnce_nebo_tuchi_1920x128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http://xn----ftbebqosbgnd.xn--p1ai/uploads/posts/2012-06/1340371940_sosulki-6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http://www.tmfoto.ru/upload/iblock/78f/78f2e9d7aa9231751ed8d0ac220922a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vedtver.ru/data/uploads/2013-01/page/14659/130123pogoda.jpg"/>
          <p:cNvPicPr/>
          <p:nvPr/>
        </p:nvPicPr>
        <p:blipFill>
          <a:blip r:embed="rId2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http://img-fotki.yandex.ru/get/5208/geteway.6/0_5028b_afa1378d_X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09Z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-16200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028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ый снег пуши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оздухе круж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 землю ти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дает, лож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д утро сне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 забеле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но пеленою все его оде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ный лес, что шап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акрылся чу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заснул под не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хо, непробудно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Объект 3" descr="http://www.fonstola.ru/pic/201112/800x600/fonstola.ru-648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http://www.fonstola.ru/pic/201111/1024x768/fonstola.ru-4935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4:12:21Z</dcterms:created>
  <dc:creator>USER</dc:creator>
  <dc:description/>
  <dc:language>en-US</dc:language>
  <cp:lastModifiedBy>Пользователь Windows</cp:lastModifiedBy>
  <dcterms:modified xsi:type="dcterms:W3CDTF">2020-12-03T09:40:09Z</dcterms:modified>
  <cp:revision>37</cp:revision>
  <dc:subject/>
  <dc:title>Слайд 1</dc:title>
</cp:coreProperties>
</file>